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89.png" ContentType="image/png"/>
  <Override PartName="/ppt/media/image52.png" ContentType="image/png"/>
  <Override PartName="/ppt/media/image59.png" ContentType="image/png"/>
  <Override PartName="/ppt/media/image24.jpeg" ContentType="image/jpeg"/>
  <Override PartName="/ppt/media/image71.png" ContentType="image/png"/>
  <Override PartName="/ppt/media/image27.jpeg" ContentType="image/jpeg"/>
  <Override PartName="/ppt/media/image10.jpeg" ContentType="image/jpeg"/>
  <Override PartName="/ppt/media/image21.jpeg" ContentType="image/jpeg"/>
  <Override PartName="/ppt/media/image65.png" ContentType="image/png"/>
  <Override PartName="/ppt/media/image80.jpeg" ContentType="image/jpeg"/>
  <Override PartName="/ppt/media/image60.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6.png" ContentType="image/png"/>
  <Override PartName="/ppt/media/image67.png" ContentType="image/png"/>
  <Override PartName="/ppt/media/image77.png" ContentType="image/png"/>
  <Override PartName="/ppt/media/image87.png" ContentType="image/png"/>
  <Override PartName="/ppt/media/image50.png" ContentType="image/png"/>
  <Override PartName="/ppt/media/image86.png" ContentType="image/png"/>
  <Override PartName="/ppt/media/image74.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75.png" ContentType="image/png"/>
  <Override PartName="/ppt/media/image81.jpeg" ContentType="image/jpeg"/>
  <Override PartName="/ppt/media/image22.jpeg" ContentType="image/jpeg"/>
  <Override PartName="/ppt/media/image1.jpeg" ContentType="image/jpeg"/>
  <Override PartName="/ppt/media/image11.png" ContentType="image/png"/>
  <Override PartName="/ppt/media/image48.png" ContentType="image/png"/>
  <Override PartName="/ppt/media/image29.png" ContentType="image/png"/>
  <Override PartName="/ppt/media/image51.wmf" ContentType="image/x-wmf"/>
  <Override PartName="/ppt/media/image90.png" ContentType="image/png"/>
  <Override PartName="/ppt/media/image25.png" ContentType="image/png"/>
  <Override PartName="/ppt/media/image19.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5.jpeg" ContentType="image/jpeg"/>
  <Override PartName="/ppt/media/image61.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media/image9.jpeg" ContentType="image/jpeg"/>
  <Override PartName="/ppt/media/image36.png" ContentType="image/png"/>
  <Override PartName="/ppt/media/image20.png" ContentType="image/png"/>
  <Override PartName="/ppt/media/image5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637DC-1CA6-4931-A977-B4D0238E0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7E996C-C4A4-45D2-AE8E-361CAE9EC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34E00-DEC2-47A0-AE9A-8E09B9228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0B9EF-84D3-4F4E-A59D-5F224CDC1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2B23F-F5BD-4C5F-B1C1-8E1011B889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98D43-2D7E-42F2-A276-1EFAE0F12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B29D1-C724-4208-897F-D6CB58FED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E7A168-A4C4-4345-954E-D94CF8960E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A3922D-F491-4D54-8943-D8CE91B936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C33857-33BD-40E3-8C61-36133787E9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39263-120A-4829-8721-2853CE7679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BE5AD3-EBC8-4A11-A4BE-87B7855F7B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1E96A-DA80-4CB3-B32A-9A924B09A6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AF4D3-BB17-4237-BF33-60612742E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0038DF-BCA5-4BA0-A7D3-C7D8FF959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62E06-9EFC-40E8-911D-7ECD3B732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0A92B-EDE3-4A0A-918C-FBD6D01DC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0030B-EA50-48D5-A4C8-B08264110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7987D-9B82-4FD4-B82D-9A29DAD56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EB3083-0C6D-4AEC-9F8A-7720E9FE1C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BDFF8F-398E-45EE-A67E-2525913EE7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428BCA-BD44-4723-80BE-A482B8C42A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066F32-2230-47CF-B7D9-BFBB039C34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6A1F4B-BDCE-4491-B288-67EFC817E0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720EF1-DCC4-49C6-B590-829B9319AD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1C9DB3-EA8C-4CD5-82EB-D070227912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F7BBD0-3ACD-46EF-8D34-15A3B16918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E7EC9F-DAC5-45FF-8DC4-665DB051D5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6BBE13-5069-49F6-B502-DFD54F2B79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A77B-C97E-4D31-9607-D2EC67ED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166755-9A31-4842-9D7B-4F5026BD59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68B816-9A87-4863-B92B-A305E2E373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976E11-86B4-4A5B-8DBA-8BBD4A6AD6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994569-775E-4009-9A6D-E1C3D79A75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BAD56B-1557-40E3-A002-BC439ADBA5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FAB06D-BEC2-473F-8A5E-A8DDB3C44F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C63241-F9F2-431E-9177-D0FA6B5C3D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819A8C-FB4F-4244-98D5-D9810BD8B1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6E62B4-36B4-44A9-9821-1531EBC733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19229B-7DAD-44FA-820D-031D9C0D2D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6E52-4DA8-4AC0-99F6-3AF3C62CA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BB224C-16DF-441D-93D9-462919ED32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8D7968-D5F3-463C-82A8-EBECF18D4D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6F9C6B-FFB9-406A-A7CE-FC8F417F2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7AA2C3-B049-4B03-8765-DB0674CF06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FC994F-2972-4602-869A-5FE29B3E11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5F6727-1C8A-4329-B214-9D18EB8E28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21BE18-0D90-4879-93D7-BEAF5D5073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525C-9208-4730-BA92-A71FE43E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2A70-CB25-415A-B00C-844ACF469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E7102-C3E8-4065-A016-EB71AA0D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152B-2CFF-4349-896A-8961248F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4281-71EF-4DE2-B3BB-55F4330C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265E-DC80-49A9-B0F9-9C134CE3B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9E15E-D5EB-41F5-80BC-A025BFEC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8FEE-9375-4B8D-B499-EE7CD905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CEDEF-D428-42D0-85D6-03476CE2C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0668B-5B3F-4C18-9493-B3C29A4A1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BB0D0-5B43-4C0C-B87B-4458359FF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55A3E-975E-4844-AADE-1CEDF871A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73DD2-F442-418F-9735-05CB2740E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DCEC0-9B88-4781-92FE-604443BC7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6362A-7DA2-44A7-BA8C-957D715B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A3F4-41C6-4DA9-85DE-25D511BC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AB0E-ADBF-4DCD-A61A-0964D6E58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CDD29-3792-4E5C-824E-38A8938E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C571D-55FF-42B6-A0B0-5000D8CD7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4F999-AC8C-47D1-83C3-59483658D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86746-DC90-4116-A0E1-5D0659E63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1C9DB-8228-47A8-A63B-318FED2FD5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0F379-748B-4659-9661-0E6814862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DCC35-F6D9-4EDB-9733-64614E27F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210F8-142B-45A2-9CBF-92D06E7B6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13584-C2CA-44DF-AE00-8B689A1DC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77454-6A3A-4A9E-8C36-F49502CAD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7D25B-90C9-4383-960D-405DA329B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AABD0-9AB4-4913-896D-3F6BE0934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3831E-7889-4AB6-8F42-4485153DD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ED21E-E63A-4F1C-B9D0-E04B5E3BF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27217-80B9-4121-AA07-0F7F0BEAB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3670F-F3AE-4B24-9EE7-FE48F8C5DA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4F464-AAC2-4AB1-A79D-19DA551040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EE157-367E-4DE4-9E08-9BA1CFA70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17EE7-5573-4A93-815A-D2275E204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D740A-39A8-455E-81B7-C94867724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EBB42-DDCB-4B67-9B6A-73212B955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37B16-E3F3-41DD-9ED8-B95A1692A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D38F7-3324-4A72-AFFC-EDEC658C0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3CA20-2908-4E23-A98D-794D14FEE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6D71B-3C5A-49ED-816B-3B5A779AD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563F9-5675-4729-8223-768A30BC3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C76AAE-5BA4-48C3-B6C3-ADD69F856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505EBE-2E17-4F38-BE62-6A604528A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8F20B5-C716-48D6-BA8A-41AE93D59C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626C9C-A44A-40D4-9948-B8F341F0D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EEA82-08B5-4690-9991-185BCA606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49C49-BC19-4319-B282-C4B70AF06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DBFA6-B26F-4502-B5E9-3987DF358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3199D-E56E-4CD6-B888-DF59EDF93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EBBBE-5062-4E99-9F6E-007AA7B64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343E1-EECB-4E84-925D-3206CFF45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69067-D0B4-4266-B7D6-1F210BFC6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9F12A-798A-4314-92A5-9B4D77603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47EE0-4D92-45ED-A1E7-2E8A66C5DD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C7D0E-0319-4DF6-9F5E-B9C3E3F6F4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75BDCC-6CAC-4CB8-87CB-1C55CA57D6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AE0411-B9AF-4133-B6BE-F392865D8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12CCF-B4A1-4C8D-9280-A2FD89B42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68A08-A992-4A17-8E51-0FECC4310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3BBD0-1847-41CB-84AA-C9A8A5D9F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095B5-F57B-45BF-9476-C5F37FF28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C6B10-622E-47D8-A582-D7D34B52D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2EC5B-3E17-4798-832D-341C9D6A3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FFABB-5282-49EB-8909-4145213C8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0216D-68A9-4A2E-A703-D1A13A43E6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3502D-49D3-4E5A-B2C6-5673939A8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39FFD-1827-4A89-9A0A-F1E7071D09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0138ED-B1BF-4D1E-9E7B-F314DAC609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35832-FCA3-45C5-A198-1A3A51380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2FB6E-F0DD-412B-AEC1-744A487BE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073953-B90D-458B-A9C9-195F29B20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A5EF0-1AF3-4E06-8BF4-616CBAC64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C2565-4138-4449-AD02-C34BAB55A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604C2-9F81-43F7-BE23-1AB65EC10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3BA50-C332-4D32-8009-3DD313E1F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F4E5C-ED8B-45C8-8DF6-7B0AFBF84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94F5FC-A8AA-4364-B53A-C70DDD572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E7689E-4574-4419-9800-B51BF1FA80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07E96-8104-4183-85AA-3CD5EDC338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79996F-C5EF-4F77-9CF8-67D93E282B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7B23BB-C9D0-4886-8C51-DB76318480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BAD87-BA8A-4596-ADF2-AE70128A1B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F9F9-726A-4002-B518-45416D98AFD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ED35-7B07-4158-8FCF-CDE7A1BA575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73EC-196C-490E-8F5E-7F5EF0BD5AFE}"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86BF-8648-451C-AA6A-901E0443A64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360D-6B19-4FDD-A281-8F27FDC0D50B}"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8A41-07CC-4C9C-B407-14C2844ADE1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17E5-A18B-447D-9A2F-089468D9EA8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6F1B-7CB0-489C-81B9-C04C08ABDFEE}"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4716-3609-4107-810D-71FE178A097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22A2-517E-43EE-B9EF-62A6D8676A2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9C5C-A0EE-46E9-BF0C-DB7BF65572E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image" Target="../media/image73.png"/><Relationship Id="rId18" Type="http://schemas.openxmlformats.org/officeDocument/2006/relationships/image" Target="../media/image74.png"/><Relationship Id="rId19"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13"/>
          <a:stretch/>
        </p:blipFill>
        <p:spPr>
          <a:xfrm>
            <a:off x="8089920" y="2457360"/>
            <a:ext cx="1041480" cy="419040"/>
          </a:xfrm>
          <a:prstGeom prst="rect">
            <a:avLst/>
          </a:prstGeom>
          <a:ln w="0">
            <a:noFill/>
          </a:ln>
        </p:spPr>
      </p:pic>
      <p:pic>
        <p:nvPicPr>
          <p:cNvPr id="771" name="101 Rectángulo" descr=""/>
          <p:cNvPicPr/>
          <p:nvPr/>
        </p:nvPicPr>
        <p:blipFill>
          <a:blip r:embed="rId14"/>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15"/>
          <a:stretch/>
        </p:blipFill>
        <p:spPr>
          <a:xfrm>
            <a:off x="8174160" y="4456080"/>
            <a:ext cx="1042920" cy="420840"/>
          </a:xfrm>
          <a:prstGeom prst="rect">
            <a:avLst/>
          </a:prstGeom>
          <a:ln w="0">
            <a:noFill/>
          </a:ln>
        </p:spPr>
      </p:pic>
      <p:pic>
        <p:nvPicPr>
          <p:cNvPr id="778" name="112 Rectángulo" descr=""/>
          <p:cNvPicPr/>
          <p:nvPr/>
        </p:nvPicPr>
        <p:blipFill>
          <a:blip r:embed="rId16"/>
          <a:stretch/>
        </p:blipFill>
        <p:spPr>
          <a:xfrm>
            <a:off x="2371680" y="4456080"/>
            <a:ext cx="1041480" cy="420840"/>
          </a:xfrm>
          <a:prstGeom prst="rect">
            <a:avLst/>
          </a:prstGeom>
          <a:ln w="0">
            <a:noFill/>
          </a:ln>
        </p:spPr>
      </p:pic>
      <p:pic>
        <p:nvPicPr>
          <p:cNvPr id="779" name="122 Rectángulo" descr=""/>
          <p:cNvPicPr/>
          <p:nvPr/>
        </p:nvPicPr>
        <p:blipFill>
          <a:blip r:embed="rId17"/>
          <a:stretch/>
        </p:blipFill>
        <p:spPr>
          <a:xfrm>
            <a:off x="7589880" y="5883120"/>
            <a:ext cx="1041480" cy="420840"/>
          </a:xfrm>
          <a:prstGeom prst="rect">
            <a:avLst/>
          </a:prstGeom>
          <a:ln w="0">
            <a:noFill/>
          </a:ln>
        </p:spPr>
      </p:pic>
      <p:pic>
        <p:nvPicPr>
          <p:cNvPr id="780" name="124 Rectángulo" descr=""/>
          <p:cNvPicPr/>
          <p:nvPr/>
        </p:nvPicPr>
        <p:blipFill>
          <a:blip r:embed="rId18"/>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3T13:36:38Z</dcterms:modified>
  <cp:revision>115</cp:revision>
  <dc:subject/>
  <dc:title>Diapositiva 1</dc:title>
</cp:coreProperties>
</file>